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E91-6FCC-4E5B-B13B-AF0BA166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4BF-50F1-46CC-B80E-F332BBDD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279-B911-4873-8DC0-7A1C1B8B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83D-39E8-4FD9-8B4E-95F5DFD2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20A-DDD2-470D-A6A2-EA6819AE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900-43BF-410F-A3E0-655C73F0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F73-7431-49C9-B020-1B34E351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7CB-D787-421E-892E-DFD85CC5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714-1BC5-4D53-B749-04C0E532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3A7-002B-4563-B911-CDCE62D1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650-8367-476A-93B8-AAB02E0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9D5-24B2-4122-9068-79514BF3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EA763-DDC0-4636-A32E-409ECF076D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9920" y="2001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CADE OF THE 194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9920" y="163980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1680" y="1600200"/>
            <a:ext cx="308592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15200" y="1600200"/>
            <a:ext cx="2286000" cy="502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657600" y="1600200"/>
            <a:ext cx="3657600" cy="502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71680" y="3886200"/>
            <a:ext cx="30859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An earthquake hit Ashgabat on October 6, 19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It had a magnitude of 7.3M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Known to be the 6</a:t>
            </a:r>
            <a:r>
              <a:rPr b="1" lang="en-US" sz="3200" spc="-1" strike="noStrike" baseline="33000">
                <a:solidFill>
                  <a:srgbClr val="00dc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 deadliest earthquake in mankind's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It occurred at precisely 2:17 in the morning, killing over 110,000 innocent civil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dcff"/>
                </a:solidFill>
                <a:latin typeface="Arial"/>
              </a:rPr>
              <a:t>The Red Army helped to aid the remaining victims of the devastating earthquake.</a:t>
            </a:r>
            <a:r>
              <a:rPr b="0" lang="en-US" sz="3200" spc="-1" strike="noStrike">
                <a:solidFill>
                  <a:srgbClr val="00d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arge earthquake struck Ambato on August 5, 194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measured a M6.8, and killed over 6,000 civilians along with many more civilians losing everything they owned even their h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 many civilians died that there weren't enough spaces in the city's central ceme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ttp://www.bing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attle of Britain began, August/ September 19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attle to be fought entirely in the ai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5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1714680"/>
            <a:ext cx="457200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k on Pearl Harbor was devastating, over 3,000 innocent peoples lives were ta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arl Harbor attack was what brought the US into WW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ate that will live in infam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attle of Stalingrad was the turning point in WW2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attle was fought in the winter of 1942-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440" y="1422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ean Moulin died on July 8, 1943 and was born on June 20, 1899 in Belziers, 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fter much persuasion, Moulin got 8 major resistance groups to form a group known as the Conseil National de la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-Day, AKA “Operation Overlord”, included 5,000 ships as well as 800planes dropping nearly 13,000 people in parach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300 planes bombed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9080" y="4343400"/>
            <a:ext cx="44575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37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lf Hitler was the leader of the Nazis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lf Hitler committed suicide on April 30, 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tler also killed his wife, whom he had married the night before this historic in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48280" y="1600200"/>
            <a:ext cx="455292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49800" y="1768320"/>
            <a:ext cx="442584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543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6099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944794"/>
                </a:solidFill>
                <a:latin typeface="Arial"/>
              </a:rPr>
              <a:t>Sir Winston Churchill gave his well-known speech, “Iron Curtain” at Westminster College located in Fulton, Missou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944794"/>
                </a:solidFill>
                <a:latin typeface="Arial"/>
              </a:rPr>
              <a:t>His father was Lord Randolph Church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944794"/>
                </a:solidFill>
                <a:latin typeface="Arial"/>
              </a:rPr>
              <a:t>Sir Winston Churchill was a prime minister, statesman, biographer, painter, historian, and sold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440" y="0"/>
            <a:ext cx="10050480" cy="7559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ent Harry S. Truman asked $400 million for military and economic assistance for the countries of Greece and Turkey on March 12, 19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man was born on May 8, 1884 and died on December 26, 197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2:16:25Z</dcterms:created>
  <dc:creator/>
  <dc:description/>
  <dc:language>en-US</dc:language>
  <cp:lastModifiedBy/>
  <cp:revision>1</cp:revision>
  <dc:subject/>
  <dc:title/>
</cp:coreProperties>
</file>